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252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74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move the slid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252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  <a:defRPr b="0" i="1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658DD6FF-7165-4CB4-B3FB-3219678F103E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Nekoliko projekata koji će biti spomenuti, traju već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veral of the projects that will be mentioned have been going on for a number of years, however the mentioned contribution in this presentation are funds and support that Sweden has specifically directed as a result of the flooding and landslides that affected BiH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F4075BBF-EC5C-41D0-BA06-F1CC4F06B571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0EED8363-0665-4EA4-9A27-7C0AEEC6901D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ARMA= Fostering Agricultural Market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210B9096-5C13-4EAD-A351-242CB82CB359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IRMA= The Fostering Interventions for Rapid Market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REDO= Competitive Regional Econom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5F5CB77D-F6AF-4150-9AA2-210E2DD3FA47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7B3600F8-CE9E-4989-B3C9-566CC9B58ACD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E57C259D-E0D8-4F76-8CDE-F543BAD3B443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BABAB991-D4A9-43A1-8F6C-63642D2B13A0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3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42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Švedska </a:t>
            </a: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p</a:t>
            </a: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odrška tokom poplava i klizišta u</a:t>
            </a: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 BiH 2014</a:t>
            </a: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.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1" descr=""/>
          <p:cNvPicPr/>
          <p:nvPr/>
        </p:nvPicPr>
        <p:blipFill>
          <a:blip r:embed="rId2"/>
          <a:stretch/>
        </p:blipFill>
        <p:spPr>
          <a:xfrm>
            <a:off x="2268360" y="2700360"/>
            <a:ext cx="4513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42896"/>
                </a:solidFill>
                <a:latin typeface="Arial"/>
                <a:ea typeface="Arial"/>
              </a:rPr>
              <a:t>Projekat obuke jedinica lokalne samouprave (MTS)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259 550 USD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Dodatna podrška Projektu obuke jedinica lokalne samouprave (MTS), za obuku u upravljanju pomoći pri masovnim nesrećama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glašen nedostatak politika, proceduralnih okvira i institucionalnih kapacitet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jekat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ARMA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s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je na prehrambenom i sektoru poljoprivred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ljoprivrednicima 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p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roizvođačkim   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organ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zacijama pogođenim poplavam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Obnov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pr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zvodnj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pošljavan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 prihod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Lanac vrijednosti u poljoprivredi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: primar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 proizvodnja i veterinarske uslug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jekat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IRMA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4,5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s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t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urizmu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šumskoj i </a:t>
            </a:r>
            <a:r>
              <a:rPr b="0" lang="sv-SE" sz="2000" spc="-1" strike="noStrike">
                <a:solidFill>
                  <a:srgbClr val="042896"/>
                </a:solidFill>
                <a:latin typeface="Arial"/>
                <a:ea typeface="Arial"/>
              </a:rPr>
              <a:t>metal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noj industriji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privatnim akterim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MSP-a u regij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Krajin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938160" y="3213000"/>
            <a:ext cx="738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CREDO Krajina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5 M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ostrojenja za pročišćavanje vod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Saradnja s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Švedskom agencijom za civilnu zaštitu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MSB)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6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strojenja visokog kapaciteta za pročišćavanje vode u kantonim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Tuzl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Zenica-Doboj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Svježa voda za piće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osigurana za preko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12 000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ljudi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Dona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ci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2 mobil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laboratori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j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EIB Program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za vodoopskrbu i sanitaciju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90280" y="1773360"/>
            <a:ext cx="75150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al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acija sredstva iz investicionih grantova za obnovu općinske insfrastrukture za vodoopskrbu i otpadne vode,  od šteta prouzrokovanih poplavama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Specijalista za upravljanje otpadom i krutim otpadnom stavljen je na raspolaganje UNDP-u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reporuke i rješen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 sigurno, efikasno i održivo upravljanje otpadom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887400" y="2852640"/>
            <a:ext cx="7386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gram upravljanja čvrstim otpadom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20 000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avda za djecu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50 000 SEK)</a:t>
            </a:r>
            <a:br>
              <a:rPr sz="20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za djecu u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BiH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utem tekuće saradnje s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NICEF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-om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štita određenih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ranjivih 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grup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a;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djec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žena i starijih osob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81200" y="2492280"/>
            <a:ext cx="738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Gender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akcioni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lan (FIGAP)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50 000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Lena Jern</dc:creator>
  <dc:description/>
  <dc:language>en-US</dc:language>
  <cp:lastModifiedBy>operater</cp:lastModifiedBy>
  <cp:lastPrinted>2014-10-13T13:15:49Z</cp:lastPrinted>
  <dcterms:modified xsi:type="dcterms:W3CDTF">2014-10-14T08:51:24Z</dcterms:modified>
  <cp:revision>364</cp:revision>
  <dc:subject/>
  <dc:title>Det här är Sveriges ambassad i Saraje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ktivitetskategori">
    <vt:lpwstr>7;#5.5. Informationsverksamhet|b6d74572-a680-43d6-a12e-13e7443d3800</vt:lpwstr>
  </property>
  <property fmtid="{D5CDD505-2E9C-101B-9397-08002B2CF9AE}" pid="3" name="ContentType">
    <vt:lpwstr>Word</vt:lpwstr>
  </property>
  <property fmtid="{D5CDD505-2E9C-101B-9397-08002B2CF9AE}" pid="4" name="ContentTypeId">
    <vt:lpwstr>0x010100D4E2D80DC721422ABBDF033BB3857F490300258E2FC9CE6A424895B86D9BAFAA2B04</vt:lpwstr>
  </property>
  <property fmtid="{D5CDD505-2E9C-101B-9397-08002B2CF9AE}" pid="5" name="DepID">
    <vt:lpwstr>3;0;0;232</vt:lpwstr>
  </property>
  <property fmtid="{D5CDD505-2E9C-101B-9397-08002B2CF9AE}" pid="6" name="Departementsenhet">
    <vt:lpwstr>1;#Utrikesdepartementet|9d481ed4-129e-47ac-a716-cf44fa41cd0b</vt:lpwstr>
  </property>
  <property fmtid="{D5CDD505-2E9C-101B-9397-08002B2CF9AE}" pid="7" name="Diarienummer">
    <vt:lpwstr/>
  </property>
  <property fmtid="{D5CDD505-2E9C-101B-9397-08002B2CF9AE}" pid="8" name="DokID">
    <vt:r8>43</vt:r8>
  </property>
  <property fmtid="{D5CDD505-2E9C-101B-9397-08002B2CF9AE}" pid="9" name="Nyckelord">
    <vt:lpwstr/>
  </property>
  <property fmtid="{D5CDD505-2E9C-101B-9397-08002B2CF9AE}" pid="10" name="Order">
    <vt:lpwstr>136300.000000000</vt:lpwstr>
  </property>
  <property fmtid="{D5CDD505-2E9C-101B-9397-08002B2CF9AE}" pid="11" name="QFMSP source name">
    <vt:lpwstr/>
  </property>
  <property fmtid="{D5CDD505-2E9C-101B-9397-08002B2CF9AE}" pid="12" name="RKOrdnaActivityCategory">
    <vt:lpwstr>5.5. Informationsverksamhet</vt:lpwstr>
  </property>
  <property fmtid="{D5CDD505-2E9C-101B-9397-08002B2CF9AE}" pid="13" name="RKOrdnaActivityCategory2">
    <vt:lpwstr>5.5. Informationsverksamhet</vt:lpwstr>
  </property>
  <property fmtid="{D5CDD505-2E9C-101B-9397-08002B2CF9AE}" pid="14" name="RKOrdnaCheckInComment">
    <vt:lpwstr/>
  </property>
  <property fmtid="{D5CDD505-2E9C-101B-9397-08002B2CF9AE}" pid="15" name="RKOrdnaClass">
    <vt:lpwstr>3</vt:lpwstr>
  </property>
  <property fmtid="{D5CDD505-2E9C-101B-9397-08002B2CF9AE}" pid="16" name="RKOrdnaDepartement">
    <vt:lpwstr>Utrikesdepartementet</vt:lpwstr>
  </property>
  <property fmtid="{D5CDD505-2E9C-101B-9397-08002B2CF9AE}" pid="17" name="RKOrdnaDepartement2">
    <vt:lpwstr>Utrikesdepartementet</vt:lpwstr>
  </property>
  <property fmtid="{D5CDD505-2E9C-101B-9397-08002B2CF9AE}" pid="18" name="RKOrdnaDiarienummer">
    <vt:lpwstr/>
  </property>
  <property fmtid="{D5CDD505-2E9C-101B-9397-08002B2CF9AE}" pid="19" name="RKOrdnaSarskildSkyddsvard">
    <vt:lpwstr>0</vt:lpwstr>
  </property>
  <property fmtid="{D5CDD505-2E9C-101B-9397-08002B2CF9AE}" pid="20" name="RKOrdnaSearchKeywords">
    <vt:lpwstr/>
  </property>
  <property fmtid="{D5CDD505-2E9C-101B-9397-08002B2CF9AE}" pid="21" name="Sekretess">
    <vt:lpwstr>0</vt:lpwstr>
  </property>
  <property fmtid="{D5CDD505-2E9C-101B-9397-08002B2CF9AE}" pid="22" name="SprakID">
    <vt:r8>0</vt:r8>
  </property>
  <property fmtid="{D5CDD505-2E9C-101B-9397-08002B2CF9AE}" pid="23" name="TaxCatchAll">
    <vt:lpwstr>7;#5.5. Informationsverksamhet|b6d74572-a680-43d6-a12e-13e7443d3800;#1;#Utrikesdepartementet|9d481ed4-129e-47ac-a716-cf44fa41cd0b</vt:lpwstr>
  </property>
  <property fmtid="{D5CDD505-2E9C-101B-9397-08002B2CF9AE}" pid="24" name="TemplateUrl">
    <vt:lpwstr/>
  </property>
  <property fmtid="{D5CDD505-2E9C-101B-9397-08002B2CF9AE}" pid="25" name="_dlc_DocId">
    <vt:lpwstr>DXK5ZKXJ2AU4-4-1208</vt:lpwstr>
  </property>
  <property fmtid="{D5CDD505-2E9C-101B-9397-08002B2CF9AE}" pid="26" name="_dlc_DocIdItemGuid">
    <vt:lpwstr>fb6ab37e-4f66-4b71-b790-75893eab370e</vt:lpwstr>
  </property>
  <property fmtid="{D5CDD505-2E9C-101B-9397-08002B2CF9AE}" pid="27" name="_dlc_DocIdUrl">
    <vt:lpwstr>http://rkdhs-ud/enhet/pik/_layouts/DocIdRedir.aspx?ID=DXK5ZKXJ2AU4-4-1208, DXK5ZKXJ2AU4-4-1208</vt:lpwstr>
  </property>
  <property fmtid="{D5CDD505-2E9C-101B-9397-08002B2CF9AE}" pid="28" name="c9cd366cc722410295b9eacffbd73909">
    <vt:lpwstr>5.5. Informationsverksamhet|b6d74572-a680-43d6-a12e-13e7443d3800</vt:lpwstr>
  </property>
  <property fmtid="{D5CDD505-2E9C-101B-9397-08002B2CF9AE}" pid="29" name="display_urn:schemas-microsoft-com:office:office#Author">
    <vt:lpwstr>Pia Roed</vt:lpwstr>
  </property>
  <property fmtid="{D5CDD505-2E9C-101B-9397-08002B2CF9AE}" pid="30" name="display_urn:schemas-microsoft-com:office:office#Editor">
    <vt:lpwstr>Pia Roed</vt:lpwstr>
  </property>
  <property fmtid="{D5CDD505-2E9C-101B-9397-08002B2CF9AE}" pid="31" name="k46d94c0acf84ab9a79866a9d8b1905f">
    <vt:lpwstr>Utrikesdepartementet|9d481ed4-129e-47ac-a716-cf44fa41cd0b</vt:lpwstr>
  </property>
  <property fmtid="{D5CDD505-2E9C-101B-9397-08002B2CF9AE}" pid="32" name="xd_ProgID">
    <vt:lpwstr/>
  </property>
  <property fmtid="{D5CDD505-2E9C-101B-9397-08002B2CF9AE}" pid="33" name="xd_Signature">
    <vt:lpwstr/>
  </property>
</Properties>
</file>